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17E4-ACC6-49DB-94C8-F23B32F10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F98F-3FFF-404D-B3E1-0AA191D51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5E91-8D2C-4E84-B5AF-D2991215F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AC8A-7C99-42F9-9D7B-E89812175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4E75-E7DD-409C-B150-4380E4E2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71B96-D1E8-4C2C-A7B4-335CB27E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447B6-D7A5-4541-BAFE-C6CC86E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4174E-58B2-49AF-8721-FC5975A8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AB801-EEF7-4DAE-9F9F-770E1EF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01274-139F-4425-B60B-CA2CA22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0F59-0074-4157-8A55-98B7B8E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800A-B86F-4518-9994-99AA78153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71AFF-D273-4A85-AE49-691DA2A1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3665-3A80-4BDC-AFFA-B6EB289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8C537-5000-4206-887A-BA1002A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D6323-6106-4BDC-80D1-DBF450F5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05D3B-AAD5-4794-979D-47AB422C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051E-1850-4F24-B469-E85F06ED8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8909-6709-4E27-A531-9755A8429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FA0A-1C38-467F-B57B-D3EAF7569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1B2B-94F4-47AE-9525-69274EC5B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95F1-5DB1-4981-AA18-EE4A2583E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ADDA-6757-4B39-B0A7-981249D38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D4DD-AC6C-4459-B0D9-D7D2E555B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A27C-814A-4520-8FFB-6727EC96B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37AA-88F5-4BE0-9F99-8E5F0C0D64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XTCGKkpWmU" TargetMode="External"/><Relationship Id="rId2" Type="http://schemas.openxmlformats.org/officeDocument/2006/relationships/hyperlink" Target="http://www.youtube.com/watch?v=KXOkNOoVFJ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B571-2FA8-4DA1-8028-1FF7712892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mall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yourselves with those who worked with student samples from the sam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346-5AE4-42CA-A8BB-9B8703FD37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arge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chart paper or spread out on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gallery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focus questions during your gallery wal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you have any insights that you would like to share with the whole gro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is (or any part of this) like something you have used in the classroom?  Particularly in relation to misconceptions with fraction concep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646-9F3B-43DB-87FE-A01047EE94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en Ways to Assess Without Putting a Mark on Pa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etting and Using Criteri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Kathleen Gregory, Caren Cameron, Anne Davies, Connections Publishing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208-89FF-4736-93E7-3F931AFB96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, I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mp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of, L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.B. (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cific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ing Acr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00B-801D-4F37-8178-2C3D751E28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think about what you’ve heard, discussed, and done during the plenary and breakout sess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 idea, a comment, or a strategy, that caught your attentio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DA8-9DF1-41A8-8EB4-03B8DABCBB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/enhance their giving of descriptive feedback through examination of student work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n their understanding of fraction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7791-DF76-462C-BA8E-72B2B5A0D6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0962-ABD5-4F33-9A8D-EFEC3033A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ing With the Stars - Best Judges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erican Idol - Taylor Hicks' Au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B2D0-6A51-482D-A4D5-88835CFA04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66680"/>
          <a:ext cx="8458200" cy="384012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  <a:gridCol w="2133360"/>
                <a:gridCol w="2286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ational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tell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ask”)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0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ake the learner feel g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encourage and support the lear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 “Good work”, “Much improved”, “Very creativ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easure student achievement with a score or gr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summariz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73%”, “Level 2”, “Needs Improvement-Satisfactory-Good-Excellen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improv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l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the learner what needs to be im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gives specific guidance as to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Your equations are correct.  Remember to use proper problem solving format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for students to internalize the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k questions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which will prompt the learner to independently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I can see your pattern works for the 2 examples you have given.  Will it work for all values of n?  How would you prove this?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y overlap among the types of feedback?  How? 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“better” than others?  How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more appropriate for certain types of tasks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A47F-E8A9-4494-AE4B-5070017629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9880" y="1371600"/>
          <a:ext cx="8040600" cy="4043520"/>
        </p:xfrm>
        <a:graphic>
          <a:graphicData uri="http://schemas.openxmlformats.org/drawingml/2006/table">
            <a:tbl>
              <a:tblPr/>
              <a:tblGrid>
                <a:gridCol w="1865520"/>
                <a:gridCol w="1866600"/>
                <a:gridCol w="217440"/>
                <a:gridCol w="1845000"/>
                <a:gridCol w="22460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t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l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k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motiv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evalu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primarily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l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he student how to correct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k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student what to do to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2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to encourage and support the lear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sure student achievement with a score or a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 by indicating to the student what needs to be 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, by moving student reasoning to the next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cxnSp>
        <p:nvCxnSpPr>
          <p:cNvPr id="109" name="Straight Arrow Connector 8"/>
          <p:cNvCxnSpPr/>
          <p:nvPr/>
        </p:nvCxnSpPr>
        <p:spPr>
          <a:xfrm>
            <a:off x="2057040" y="5103360"/>
            <a:ext cx="5258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s – 5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assignment, Jaime received the following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A:            Section B:            Tot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ie was confused, because using what she knew about fractions, she did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think that              .  How  would you explain this to Ja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Show what you know about        and       .  Use different representations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Give a real life example of a problem where the solution could involve dividing by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What do you know about          ?  Use diagrams, numbers, algebra, words, etc.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Create a sentence that makes sense that includes ALL of these words and numbers:  improper, fraction, simple, challenging,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1461-DBC8-4586-9C64-7D6C61EA33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4BE-1D14-4DD8-9B80-D83474E0F2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2565360" y="1523880"/>
                <a:ext cx="17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268360" y="3600360"/>
                <a:ext cx="169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743280" y="3809880"/>
                <a:ext cx="4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2610000" y="1676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743200" y="219708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3962520" y="2743200"/>
                <a:ext cx="317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43400" y="152388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5707080" y="152388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876920" y="2751120"/>
                <a:ext cx="304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5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, 2, or 3 samples of student work f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analyze the student thinking and write descriptive feedback using a 4-colour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64FE-D17D-4309-B870-7087DCF5B2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4-Colour Strateg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t and paste the question and the student sample in the middle of a piece of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4 markers of different colours and write the following around the s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the student kn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knowledge/understanding seems frag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questions you might ask the student to expose and evoke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a descriptive feedback comment might look like on the student work based on the above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1DC-E088-4899-BC8C-A8E2DAC7CD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1T18:01:30Z</dcterms:modified>
  <cp:revision>24</cp:revision>
  <dc:subject/>
  <dc:title>&lt;Title&gt;</dc:title>
</cp:coreProperties>
</file>